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418-AA46-4A11-A113-C6BB6ABB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397-E02E-47D0-A436-64ED60CE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215-9B4E-4FD4-817F-34E8F0E6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D1D-3EDB-4193-A02A-AF55B94C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2A8-2276-4E9A-A84C-F1F7D45A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988-7014-4CA0-98B8-5B992B4D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6C4-8DAE-495E-9BA1-FA57B623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CF4-9776-4FF6-A8FA-47D2D11A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209-8A39-4E22-A672-47A8FE04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528-96BE-421C-B251-09C6870B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D83-3C11-4F12-93C6-8774924B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F33-7D4B-4E6F-9192-B7361466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7B8E-8D6A-40F1-868E-46310A2F9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7933320" y="5943600"/>
              <a:ext cx="104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quilibri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emical Equilibrium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atio of the rate constants is a constant at that temperature, and the expression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289600" y="3573000"/>
            <a:ext cx="4563720" cy="1480680"/>
            <a:chOff x="2289600" y="3573000"/>
            <a:chExt cx="4563720" cy="1480680"/>
          </a:xfrm>
        </p:grpSpPr>
        <p:sp>
          <p:nvSpPr>
            <p:cNvPr id="79" name=""/>
            <p:cNvSpPr/>
            <p:nvPr/>
          </p:nvSpPr>
          <p:spPr>
            <a:xfrm>
              <a:off x="2289600" y="3962520"/>
              <a:ext cx="1282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eq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3830400" y="3573000"/>
              <a:ext cx="3022920" cy="1480680"/>
              <a:chOff x="3830400" y="3573000"/>
              <a:chExt cx="3022920" cy="148068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3830400" y="3573000"/>
                <a:ext cx="755280" cy="1480680"/>
                <a:chOff x="3830400" y="3573000"/>
                <a:chExt cx="755280" cy="14806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911040" y="3573000"/>
                  <a:ext cx="674640" cy="14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i="1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f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i="1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r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30400" y="4376520"/>
                  <a:ext cx="68580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5290560" y="3573000"/>
                <a:ext cx="1562760" cy="1480680"/>
                <a:chOff x="5290560" y="3573000"/>
                <a:chExt cx="1562760" cy="14806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302440" y="3573000"/>
                  <a:ext cx="1550880" cy="14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290560" y="4360680"/>
                  <a:ext cx="152352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4794480" y="396108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o generalize this expression, consider the reactio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8862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expression for this reaction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85120" y="5029200"/>
            <a:ext cx="3165120" cy="1312920"/>
            <a:chOff x="2985120" y="5029200"/>
            <a:chExt cx="3165120" cy="1312920"/>
          </a:xfrm>
        </p:grpSpPr>
        <p:sp>
          <p:nvSpPr>
            <p:cNvPr id="92" name=""/>
            <p:cNvSpPr/>
            <p:nvPr/>
          </p:nvSpPr>
          <p:spPr>
            <a:xfrm>
              <a:off x="2985120" y="5334120"/>
              <a:ext cx="12463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c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245120" y="5029200"/>
              <a:ext cx="1905120" cy="1312920"/>
              <a:chOff x="4245120" y="5029200"/>
              <a:chExt cx="1905120" cy="1312920"/>
            </a:xfrm>
          </p:grpSpPr>
          <p:sp>
            <p:nvSpPr>
              <p:cNvPr id="94" name=""/>
              <p:cNvSpPr/>
              <p:nvPr/>
            </p:nvSpPr>
            <p:spPr>
              <a:xfrm>
                <a:off x="4345560" y="5029200"/>
                <a:ext cx="17899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C]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D]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B]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245120" y="5719320"/>
                <a:ext cx="190512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2135160" y="3139920"/>
            <a:ext cx="4785480" cy="581400"/>
            <a:chOff x="2135160" y="3139920"/>
            <a:chExt cx="4785480" cy="581400"/>
          </a:xfrm>
        </p:grpSpPr>
        <p:sp>
          <p:nvSpPr>
            <p:cNvPr id="97" name=""/>
            <p:cNvSpPr/>
            <p:nvPr/>
          </p:nvSpPr>
          <p:spPr>
            <a:xfrm>
              <a:off x="2135160" y="3139920"/>
              <a:ext cx="163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A +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b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8520" y="31399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 +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d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894120" y="3335400"/>
              <a:ext cx="1244520" cy="190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52720" y="2673360"/>
            <a:ext cx="3238560" cy="151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Are the Equilibrium Expressions for These Equilibria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ecause pressure is proportional to concentration for gases in a closed system, the equilibrium expression can also be writte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653920" y="3962520"/>
            <a:ext cx="3839040" cy="1480680"/>
            <a:chOff x="2653920" y="3962520"/>
            <a:chExt cx="3839040" cy="1480680"/>
          </a:xfrm>
        </p:grpSpPr>
        <p:sp>
          <p:nvSpPr>
            <p:cNvPr id="105" name=""/>
            <p:cNvSpPr/>
            <p:nvPr/>
          </p:nvSpPr>
          <p:spPr>
            <a:xfrm>
              <a:off x="2653920" y="4267080"/>
              <a:ext cx="1119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p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789360" y="3962520"/>
              <a:ext cx="2703600" cy="1480680"/>
              <a:chOff x="3789360" y="3962520"/>
              <a:chExt cx="2703600" cy="1480680"/>
            </a:xfrm>
          </p:grpSpPr>
          <p:sp>
            <p:nvSpPr>
              <p:cNvPr id="107" name=""/>
              <p:cNvSpPr/>
              <p:nvPr/>
            </p:nvSpPr>
            <p:spPr>
              <a:xfrm>
                <a:off x="3789360" y="3962520"/>
                <a:ext cx="270360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D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B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r>
                  <a:rPr b="0" i="1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902040" y="4674960"/>
                <a:ext cx="25146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36576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you can see, the ratio of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remains constant at this temperature no matter what the initial concentrations of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17837" r="0" b="13550"/>
          <a:stretch/>
        </p:blipFill>
        <p:spPr>
          <a:xfrm>
            <a:off x="0" y="198108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is the data from the last two trials from the table on the previous slid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0" b="4181"/>
          <a:stretch/>
        </p:blipFill>
        <p:spPr>
          <a:xfrm>
            <a:off x="304920" y="1822320"/>
            <a:ext cx="426708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does not matter whether we start with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whether we start with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  We will have the same proportions of all three substanc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9231"/>
          <a:stretch/>
        </p:blipFill>
        <p:spPr>
          <a:xfrm>
            <a:off x="719280" y="1703520"/>
            <a:ext cx="769608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Does the Value of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gt;&gt; 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roduc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product predominat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49256"/>
          <a:stretch/>
        </p:blipFill>
        <p:spPr>
          <a:xfrm>
            <a:off x="690480" y="1447920"/>
            <a:ext cx="374508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Does the Value of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&gt;&gt; 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roduc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product predominat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1148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K &lt;&lt; 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eactan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reactant predominates at equilib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4479"/>
          <a:stretch/>
        </p:blipFill>
        <p:spPr>
          <a:xfrm>
            <a:off x="690480" y="1447920"/>
            <a:ext cx="374508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of a reaction in the reverse reaction is the reciprocal of the equilibrium constant of the forward reac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65840" y="4546440"/>
            <a:ext cx="1370160" cy="825480"/>
            <a:chOff x="6765840" y="4546440"/>
            <a:chExt cx="1370160" cy="825480"/>
          </a:xfrm>
        </p:grpSpPr>
        <p:grpSp>
          <p:nvGrpSpPr>
            <p:cNvPr id="128" name=""/>
            <p:cNvGrpSpPr/>
            <p:nvPr/>
          </p:nvGrpSpPr>
          <p:grpSpPr>
            <a:xfrm>
              <a:off x="7191360" y="4546440"/>
              <a:ext cx="944640" cy="825480"/>
              <a:chOff x="7191360" y="4546440"/>
              <a:chExt cx="944640" cy="825480"/>
            </a:xfrm>
          </p:grpSpPr>
          <p:sp>
            <p:nvSpPr>
              <p:cNvPr id="129" name=""/>
              <p:cNvSpPr/>
              <p:nvPr/>
            </p:nvSpPr>
            <p:spPr>
              <a:xfrm>
                <a:off x="7191360" y="4546440"/>
                <a:ext cx="942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.2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21600" y="4927680"/>
                <a:ext cx="914400" cy="0"/>
              </a:xfrm>
              <a:prstGeom prst="line">
                <a:avLst/>
              </a:prstGeom>
              <a:ln w="936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6765840" y="4699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480" y="3673440"/>
            <a:ext cx="8995680" cy="2225880"/>
            <a:chOff x="51480" y="3673440"/>
            <a:chExt cx="8995680" cy="2225880"/>
          </a:xfrm>
        </p:grpSpPr>
        <p:grpSp>
          <p:nvGrpSpPr>
            <p:cNvPr id="133" name=""/>
            <p:cNvGrpSpPr/>
            <p:nvPr/>
          </p:nvGrpSpPr>
          <p:grpSpPr>
            <a:xfrm>
              <a:off x="4609800" y="3673440"/>
              <a:ext cx="4437360" cy="926280"/>
              <a:chOff x="4609800" y="3673440"/>
              <a:chExt cx="4437360" cy="926280"/>
            </a:xfrm>
          </p:grpSpPr>
          <p:sp>
            <p:nvSpPr>
              <p:cNvPr id="134" name=""/>
              <p:cNvSpPr/>
              <p:nvPr/>
            </p:nvSpPr>
            <p:spPr>
              <a:xfrm>
                <a:off x="4609800" y="3855960"/>
                <a:ext cx="4437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0.212 at 100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5256720" y="3673440"/>
                <a:ext cx="1189440" cy="926280"/>
                <a:chOff x="5256720" y="3673440"/>
                <a:chExt cx="1189440" cy="92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378040" y="367344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256720" y="4113000"/>
                  <a:ext cx="118944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61920" y="3824280"/>
              <a:ext cx="1414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50200" y="3824280"/>
              <a:ext cx="159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2 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775760" y="4495680"/>
              <a:ext cx="4268160" cy="1403640"/>
              <a:chOff x="4775760" y="4495680"/>
              <a:chExt cx="4268160" cy="1403640"/>
            </a:xfrm>
          </p:grpSpPr>
          <p:sp>
            <p:nvSpPr>
              <p:cNvPr id="141" name=""/>
              <p:cNvSpPr/>
              <p:nvPr/>
            </p:nvSpPr>
            <p:spPr>
              <a:xfrm>
                <a:off x="4775760" y="4657680"/>
                <a:ext cx="426816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= 4.72 at 100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5422320" y="4495680"/>
                <a:ext cx="1189080" cy="926280"/>
                <a:chOff x="5422320" y="4495680"/>
                <a:chExt cx="1189080" cy="926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544000" y="449568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22320" y="4935240"/>
                  <a:ext cx="118908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3109320" y="4648320"/>
              <a:ext cx="1414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80" y="4648320"/>
              <a:ext cx="159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2 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1408320" y="4010040"/>
              <a:ext cx="154836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1544760" y="4800600"/>
              <a:ext cx="154836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pt of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518112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emical equilibrium occurs when a reaction and its reverse reaction proceed at the same 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6251" t="14433" r="7787" b="23957"/>
          <a:stretch/>
        </p:blipFill>
        <p:spPr>
          <a:xfrm>
            <a:off x="1781280" y="1224000"/>
            <a:ext cx="5562360" cy="380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of a reaction that has been multiplied by a number is the equilibrium constant raised to a power that is equal to that number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1600" y="3505320"/>
            <a:ext cx="9009360" cy="2161080"/>
            <a:chOff x="21600" y="3505320"/>
            <a:chExt cx="9009360" cy="2161080"/>
          </a:xfrm>
        </p:grpSpPr>
        <p:grpSp>
          <p:nvGrpSpPr>
            <p:cNvPr id="152" name=""/>
            <p:cNvGrpSpPr/>
            <p:nvPr/>
          </p:nvGrpSpPr>
          <p:grpSpPr>
            <a:xfrm>
              <a:off x="4493520" y="3505320"/>
              <a:ext cx="4437360" cy="926280"/>
              <a:chOff x="4493520" y="3505320"/>
              <a:chExt cx="4437360" cy="926280"/>
            </a:xfrm>
          </p:grpSpPr>
          <p:sp>
            <p:nvSpPr>
              <p:cNvPr id="153" name=""/>
              <p:cNvSpPr/>
              <p:nvPr/>
            </p:nvSpPr>
            <p:spPr>
              <a:xfrm>
                <a:off x="4493520" y="3687840"/>
                <a:ext cx="4437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0.212 at 100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5120640" y="3505320"/>
                <a:ext cx="1157760" cy="926280"/>
                <a:chOff x="5120640" y="3505320"/>
                <a:chExt cx="1157760" cy="926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227560" y="350532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20640" y="3944880"/>
                  <a:ext cx="11577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63360" y="3656160"/>
              <a:ext cx="1414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74960" y="3656160"/>
              <a:ext cx="159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2 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290480" y="4740120"/>
              <a:ext cx="4740480" cy="926280"/>
              <a:chOff x="4290480" y="4740120"/>
              <a:chExt cx="4740480" cy="926280"/>
            </a:xfrm>
          </p:grpSpPr>
          <p:sp>
            <p:nvSpPr>
              <p:cNvPr id="160" name=""/>
              <p:cNvSpPr/>
              <p:nvPr/>
            </p:nvSpPr>
            <p:spPr>
              <a:xfrm>
                <a:off x="4290480" y="4922640"/>
                <a:ext cx="4740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(0.212)</a:t>
                </a:r>
                <a:r>
                  <a:rPr b="0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at 100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4910760" y="4740120"/>
                <a:ext cx="1161360" cy="926280"/>
                <a:chOff x="4910760" y="4740120"/>
                <a:chExt cx="1161360" cy="926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966560" y="4740120"/>
                  <a:ext cx="1105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10760" y="5179680"/>
                  <a:ext cx="11577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21600" y="4890960"/>
              <a:ext cx="1711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2 N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89280" y="4890960"/>
              <a:ext cx="159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4 NO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1560600" y="3857760"/>
              <a:ext cx="123012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1617840" y="5092560"/>
              <a:ext cx="1230120" cy="196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for a net reaction made up of two or more steps is the product of the equilibrium constants for the individual step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Heterogeneous Equilibrium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ntrations of Solids and Liquids Are Essentially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oth can be obtained by dividing the density of the substance by its molar mas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—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nd both of these are constants at constant temperature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ntrations of Solids and Liquids Are Essentially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the concentrations of solids and liquids do not appear in the equilibrium expressio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006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Pb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Cl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51280" y="3916440"/>
            <a:ext cx="6800760" cy="648720"/>
            <a:chOff x="1151280" y="3916440"/>
            <a:chExt cx="6800760" cy="648720"/>
          </a:xfrm>
        </p:grpSpPr>
        <p:sp>
          <p:nvSpPr>
            <p:cNvPr id="177" name=""/>
            <p:cNvSpPr/>
            <p:nvPr/>
          </p:nvSpPr>
          <p:spPr>
            <a:xfrm>
              <a:off x="1151280" y="3916440"/>
              <a:ext cx="1531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bCl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82600" y="3916440"/>
              <a:ext cx="3169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b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 2 Cl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2895480" y="411480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long as some Ca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CaO remain in the system, the amount of 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bove the solid will remain the sa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1453"/>
          <a:stretch/>
        </p:blipFill>
        <p:spPr>
          <a:xfrm>
            <a:off x="2438280" y="3276720"/>
            <a:ext cx="4267440" cy="270036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536040" y="457200"/>
            <a:ext cx="8035920" cy="787320"/>
            <a:chOff x="536040" y="457200"/>
            <a:chExt cx="8035920" cy="787320"/>
          </a:xfrm>
        </p:grpSpPr>
        <p:sp>
          <p:nvSpPr>
            <p:cNvPr id="183" name=""/>
            <p:cNvSpPr/>
            <p:nvPr/>
          </p:nvSpPr>
          <p:spPr>
            <a:xfrm>
              <a:off x="536040" y="457200"/>
              <a:ext cx="2177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CaC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3 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62680" y="457200"/>
              <a:ext cx="3509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C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+ Ca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2895480" y="685800"/>
              <a:ext cx="1981440" cy="301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Equilibrium Calculations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lcul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closed system initially containing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1.000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2.000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 I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448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is allowed to reach equilibrium.  Analysis of the equilibrium mixture shows that the concentration of HI is 1.87 x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.  Calculate 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t 448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 for the reaction taking place, which i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531080" y="5410080"/>
            <a:ext cx="6089400" cy="718200"/>
            <a:chOff x="1531080" y="5410080"/>
            <a:chExt cx="6089400" cy="718200"/>
          </a:xfrm>
        </p:grpSpPr>
        <p:sp>
          <p:nvSpPr>
            <p:cNvPr id="190" name=""/>
            <p:cNvSpPr/>
            <p:nvPr/>
          </p:nvSpPr>
          <p:spPr>
            <a:xfrm>
              <a:off x="1531080" y="5410080"/>
              <a:ext cx="2249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 + 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3520" y="5410080"/>
              <a:ext cx="1416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2 H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4184640" y="5670360"/>
              <a:ext cx="1587600" cy="241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What Do We Know?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04920" y="1981080"/>
          <a:ext cx="8534160" cy="31734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[HI] Increases by 1.87 x 10</a:t>
            </a:r>
            <a:r>
              <a:rPr b="0" lang="en-US" sz="36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04920" y="1981080"/>
          <a:ext cx="7848360" cy="30495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  <a:gridCol w="1905120"/>
                <a:gridCol w="213336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4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4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"/>
          <p:cNvGrpSpPr/>
          <p:nvPr/>
        </p:nvGrpSpPr>
        <p:grpSpPr>
          <a:xfrm>
            <a:off x="2597760" y="1219320"/>
            <a:ext cx="6089400" cy="718200"/>
            <a:chOff x="2597760" y="1219320"/>
            <a:chExt cx="6089400" cy="718200"/>
          </a:xfrm>
        </p:grpSpPr>
        <p:sp>
          <p:nvSpPr>
            <p:cNvPr id="198" name=""/>
            <p:cNvSpPr/>
            <p:nvPr/>
          </p:nvSpPr>
          <p:spPr>
            <a:xfrm>
              <a:off x="2597760" y="1219320"/>
              <a:ext cx="2249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 + 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70200" y="1219320"/>
              <a:ext cx="1416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2 H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251320" y="147924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pt of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a system approaches equilibrium, both the forward and reverse reactions are occurr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equilibrium, the forward and reverse reactions are proceeding at the same 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46431" r="0" b="9723"/>
          <a:stretch/>
        </p:blipFill>
        <p:spPr>
          <a:xfrm>
            <a:off x="264960" y="1433520"/>
            <a:ext cx="3926160" cy="3011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05080" y="1876320"/>
            <a:ext cx="1806480" cy="21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Stoichiometry tells us [H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] and [I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]</a:t>
            </a:r>
            <a:br>
              <a:rPr sz="3600"/>
            </a:b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decrease by half as much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04920" y="1981080"/>
          <a:ext cx="8534160" cy="31734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We can now calculate the equilibrium concentrations of all three compounds…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4920" y="1981080"/>
          <a:ext cx="8534160" cy="31734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5 x 10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065 x 10</a:t>
                      </a:r>
                      <a:r>
                        <a:rPr b="0" lang="en-US" sz="2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8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and, therefore, the equilibrium constant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461600" y="1752480"/>
            <a:ext cx="7159320" cy="3903840"/>
            <a:chOff x="1461600" y="1752480"/>
            <a:chExt cx="7159320" cy="3903840"/>
          </a:xfrm>
        </p:grpSpPr>
        <p:grpSp>
          <p:nvGrpSpPr>
            <p:cNvPr id="207" name=""/>
            <p:cNvGrpSpPr/>
            <p:nvPr/>
          </p:nvGrpSpPr>
          <p:grpSpPr>
            <a:xfrm>
              <a:off x="1461600" y="1752480"/>
              <a:ext cx="3149640" cy="1396800"/>
              <a:chOff x="1461600" y="1752480"/>
              <a:chExt cx="3149640" cy="1396800"/>
            </a:xfrm>
          </p:grpSpPr>
          <p:sp>
            <p:nvSpPr>
              <p:cNvPr id="208" name=""/>
              <p:cNvSpPr/>
              <p:nvPr/>
            </p:nvSpPr>
            <p:spPr>
              <a:xfrm>
                <a:off x="1461600" y="2057400"/>
                <a:ext cx="11044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2706480" y="1752480"/>
                <a:ext cx="1904760" cy="1396800"/>
                <a:chOff x="2706480" y="1752480"/>
                <a:chExt cx="1904760" cy="13968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810520" y="1752480"/>
                  <a:ext cx="172332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HI]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H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 [I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06480" y="2466720"/>
                  <a:ext cx="190476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2100600" y="4952880"/>
              <a:ext cx="132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=  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100600" y="3352680"/>
              <a:ext cx="6520320" cy="1312920"/>
              <a:chOff x="2100600" y="3352680"/>
              <a:chExt cx="6520320" cy="1312920"/>
            </a:xfrm>
          </p:grpSpPr>
          <p:sp>
            <p:nvSpPr>
              <p:cNvPr id="214" name=""/>
              <p:cNvSpPr/>
              <p:nvPr/>
            </p:nvSpPr>
            <p:spPr>
              <a:xfrm>
                <a:off x="2100600" y="365724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2906280" y="3352680"/>
                <a:ext cx="5714640" cy="1312920"/>
                <a:chOff x="2906280" y="3352680"/>
                <a:chExt cx="5714640" cy="13129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2952000" y="3352680"/>
                  <a:ext cx="555768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(1.87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3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(6.5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5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(1.065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3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906280" y="4038120"/>
                  <a:ext cx="571464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90760" y="1371600"/>
            <a:ext cx="61624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Reaction Quotient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o calculat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one substitutes the initial concentrations on reactants and products into the equilibrium express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gives the same ratio the equilibrium expression gives, but for a system that is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t equilibrium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 system is at equilibri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0" r="0" b="3704"/>
          <a:stretch/>
        </p:blipFill>
        <p:spPr>
          <a:xfrm>
            <a:off x="2387520" y="1981080"/>
            <a:ext cx="43671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225" name="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228" name="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&gt;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re is too much product and the equilibrium shifts to the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0" b="3704"/>
          <a:stretch/>
        </p:blipFill>
        <p:spPr>
          <a:xfrm>
            <a:off x="2387520" y="1981080"/>
            <a:ext cx="4367160" cy="4419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438280" y="2895480"/>
            <a:ext cx="2681280" cy="3505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&lt;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re is too much reactant, and the equilibrium shifts to the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0" t="0" r="0" b="3704"/>
          <a:stretch/>
        </p:blipFill>
        <p:spPr>
          <a:xfrm>
            <a:off x="2387520" y="1981080"/>
            <a:ext cx="43671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3962520" y="1981080"/>
            <a:ext cx="2755800" cy="4419720"/>
            <a:chOff x="3962520" y="1981080"/>
            <a:chExt cx="2755800" cy="4419720"/>
          </a:xfrm>
        </p:grpSpPr>
        <p:sp>
          <p:nvSpPr>
            <p:cNvPr id="238" name=""/>
            <p:cNvSpPr/>
            <p:nvPr/>
          </p:nvSpPr>
          <p:spPr>
            <a:xfrm>
              <a:off x="4083120" y="1981080"/>
              <a:ext cx="2546280" cy="329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2520" y="5276880"/>
              <a:ext cx="2755800" cy="1123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Le Châtelier’s Principle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 Châtelier’s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a system at equilibrium is disturbed by a change in temperature, pressure, or the concentration of one of the components, the system will shift its equilibrium position so as to counteract the effect of the disturbance.”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 System at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ce equilibrium is achieved,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mou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each reactant and product remains consta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59262"/>
          <a:stretch/>
        </p:blipFill>
        <p:spPr>
          <a:xfrm>
            <a:off x="4038480" y="1735200"/>
            <a:ext cx="472464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Happens When More of a Reactant Is Added to a System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415880" y="1981080"/>
            <a:ext cx="63122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transformation of nitrogen and hydrogen into ammonia (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is of tremendous significance in agriculture, where ammonia-based fertilizers are of utmost impor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0" t="0" r="0" b="4534"/>
          <a:stretch/>
        </p:blipFill>
        <p:spPr>
          <a:xfrm>
            <a:off x="304920" y="3809880"/>
            <a:ext cx="594360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added to the system,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will be consumed and the two reagents will form more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0" t="0" r="0" b="7078"/>
          <a:stretch/>
        </p:blipFill>
        <p:spPr>
          <a:xfrm>
            <a:off x="609480" y="1219320"/>
            <a:ext cx="3657600" cy="1676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rcRect l="0" t="0" r="0" b="3279"/>
          <a:stretch/>
        </p:blipFill>
        <p:spPr>
          <a:xfrm>
            <a:off x="619200" y="3352680"/>
            <a:ext cx="344484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apparatus helps push the equilibrium to the right by removing the ammonia (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from the system as a liqu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0" r="0" b="3335"/>
          <a:stretch/>
        </p:blipFill>
        <p:spPr>
          <a:xfrm>
            <a:off x="181080" y="1523880"/>
            <a:ext cx="45241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ffect of Changes in Press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994040" y="1981080"/>
            <a:ext cx="515592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ffect of Changes in 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4166" t="16667" r="5554" b="20244"/>
          <a:stretch/>
        </p:blipFill>
        <p:spPr>
          <a:xfrm>
            <a:off x="2095560" y="2971800"/>
            <a:ext cx="4952880" cy="336852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293760" y="1766880"/>
            <a:ext cx="8583840" cy="579600"/>
            <a:chOff x="293760" y="1766880"/>
            <a:chExt cx="8583840" cy="579600"/>
          </a:xfrm>
        </p:grpSpPr>
        <p:sp>
          <p:nvSpPr>
            <p:cNvPr id="260" name=""/>
            <p:cNvSpPr/>
            <p:nvPr/>
          </p:nvSpPr>
          <p:spPr>
            <a:xfrm>
              <a:off x="293760" y="1766880"/>
              <a:ext cx="363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Co(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)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6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4 C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38040" y="1766880"/>
              <a:ext cx="313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CoC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 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6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4038480" y="1905120"/>
              <a:ext cx="1587600" cy="24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ffect of Changes in 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795320" y="2286000"/>
            <a:ext cx="55515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Catalysts increase the rate of both the forward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reverse reactions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0" r="0" b="3718"/>
          <a:stretch/>
        </p:blipFill>
        <p:spPr>
          <a:xfrm>
            <a:off x="1981080" y="1733400"/>
            <a:ext cx="518184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Equilibrium is achieved faster, but the equilibrium composition remains unaltered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0" t="0" r="0" b="3718"/>
          <a:stretch/>
        </p:blipFill>
        <p:spPr>
          <a:xfrm>
            <a:off x="1981080" y="1733400"/>
            <a:ext cx="5181840" cy="443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picting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a system at equilibrium, both the forward and reverse reactions are being carried out; as a result, we write its equation with a double arrow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5280" y="4343400"/>
            <a:ext cx="4576680" cy="648720"/>
            <a:chOff x="2285280" y="4343400"/>
            <a:chExt cx="4576680" cy="648720"/>
          </a:xfrm>
        </p:grpSpPr>
        <p:sp>
          <p:nvSpPr>
            <p:cNvPr id="58" name=""/>
            <p:cNvSpPr/>
            <p:nvPr/>
          </p:nvSpPr>
          <p:spPr>
            <a:xfrm>
              <a:off x="2285280" y="4343400"/>
              <a:ext cx="1406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3851280" y="4538520"/>
              <a:ext cx="12445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248800" y="4343400"/>
              <a:ext cx="1613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2 N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ward reac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 (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2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 (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verse reac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2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 (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 (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at equilibrium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Rate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writing this, it become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044880" y="4639680"/>
            <a:ext cx="3022920" cy="1480680"/>
            <a:chOff x="3044880" y="4639680"/>
            <a:chExt cx="3022920" cy="1480680"/>
          </a:xfrm>
        </p:grpSpPr>
        <p:grpSp>
          <p:nvGrpSpPr>
            <p:cNvPr id="69" name=""/>
            <p:cNvGrpSpPr/>
            <p:nvPr/>
          </p:nvGrpSpPr>
          <p:grpSpPr>
            <a:xfrm>
              <a:off x="3044880" y="4639680"/>
              <a:ext cx="755280" cy="1480680"/>
              <a:chOff x="3044880" y="4639680"/>
              <a:chExt cx="755280" cy="1480680"/>
            </a:xfrm>
          </p:grpSpPr>
          <p:sp>
            <p:nvSpPr>
              <p:cNvPr id="70" name=""/>
              <p:cNvSpPr/>
              <p:nvPr/>
            </p:nvSpPr>
            <p:spPr>
              <a:xfrm>
                <a:off x="3125520" y="4639680"/>
                <a:ext cx="67464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f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r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044880" y="5443560"/>
                <a:ext cx="6858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505040" y="4639680"/>
              <a:ext cx="1562760" cy="1480680"/>
              <a:chOff x="4505040" y="4639680"/>
              <a:chExt cx="1562760" cy="1480680"/>
            </a:xfrm>
          </p:grpSpPr>
          <p:sp>
            <p:nvSpPr>
              <p:cNvPr id="73" name=""/>
              <p:cNvSpPr/>
              <p:nvPr/>
            </p:nvSpPr>
            <p:spPr>
              <a:xfrm>
                <a:off x="4516920" y="4639680"/>
                <a:ext cx="155088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NO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N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505040" y="5427720"/>
                <a:ext cx="152352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4008960" y="502848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9:58:48Z</dcterms:created>
  <dc:creator>John Bookstaver</dc:creator>
  <dc:description/>
  <cp:keywords/>
  <dc:language>en-US</dc:language>
  <cp:lastModifiedBy>C363966</cp:lastModifiedBy>
  <cp:lastPrinted>2012-04-30T15:46:43Z</cp:lastPrinted>
  <dcterms:modified xsi:type="dcterms:W3CDTF">2016-04-22T18:33:26Z</dcterms:modified>
  <cp:revision>101</cp:revision>
  <dc:subject/>
  <dc:title>Chapter 15 Chemical Equilibrium</dc:title>
</cp:coreProperties>
</file>